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B7E-6B91-4176-B936-0EE4170A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04B-C6A0-4BD5-92D7-B6DF991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16AC8-FCC0-40B6-B6EB-76494E0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9EE39-0F2E-41C7-BC53-6B7F7D0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E6186-FCA1-4D85-A4FF-FC4829E6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1C99F-68D5-4D01-AC1F-BAA7C0E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47F0B-4879-4477-BE8A-6A60B32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EA4C1-28FB-48D2-B86C-C23D965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BCA55-3231-43A0-A905-6AEDF34A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AD0B6-FAFB-4F41-8E17-110189AD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61948-F7AB-4860-9241-8A3CECE7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D592E-A5B2-4A6A-B1AE-B895DA51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3F2-3922-425C-9979-DFDAE202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53261-1E7D-4AC5-9D99-9B74D98B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308CE-EE45-47F1-888B-21D6DF52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2D6A5-67F2-45ED-915E-25A59AF0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D1820-42FA-4F46-9699-FCB9377F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7AE86-A3C3-4F89-A81F-8A00D1BD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1AC07-0CEC-45F3-93C0-80F37CB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7EA4F-4F3C-49EE-B9A7-663A5E1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D4D79-BC91-4F39-9A40-E9901C1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3A185-5B32-47FB-913D-26871C2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6E633-F6E4-46EA-904E-8BA5D2C4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49F-B1DA-47ED-A35F-5004EBD3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CA724-09BE-4F46-8EFB-9FE18A9F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0E4D1-E42F-4CF0-B363-AA6F53CA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FD23-7216-4025-8A5C-0F95174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BE0F-D242-4799-BDAC-2C247B81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ED144-64CA-466E-AB9E-E0D1F7B5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9E2DF-7180-4C98-A6A9-7C20A87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FBC42-13AD-4179-94CD-CD045A0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EC6E0-BBD0-4DF7-9E7F-E0E95DF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202FA-A053-4251-A1C8-640E651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316B1-0546-4AFD-8189-5F03F5A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33B2-FC1D-4724-8745-E9357AE2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21265-DECB-4C4F-BFB5-EEB8B62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14F25-02C8-427F-B0B1-3617D7A9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FD064-F97F-41BE-9E74-69A3AD86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4C84A-C353-4FBA-A3CC-93EB434D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95BED-8648-44D8-A8CE-1D57641F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94C2E-7E65-4230-A2FE-A761A1E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B6A65-949C-47B0-B706-0B515BD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95224-24AE-49A1-8468-372F086B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69100-BE6D-43A4-B091-DBAED63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1D486-F9E3-4E36-8F9D-BFC2FDE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DFB-9701-4076-BB27-5C85FFC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00940-FA2A-4449-AC3C-A0A91AD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DB663-0053-4B68-8090-E8B8C8B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0A682-E9B2-495F-8521-766438E0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D59E1-7DA9-4F6C-8331-5E28F1C9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C2A94-167E-4204-9C37-64F1EF00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E13-98E2-40D8-BBD6-BE030BC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379-0EA7-4A31-AEE9-4887E019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727F-F014-4199-BCC7-9ABED788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68A-037B-41D3-B3C7-AA300EB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F46D-DBD0-41C9-B480-2E836A0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D81-85EE-4127-A054-37C09F2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0317-3B43-4091-B5EA-507F321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468E-27B4-4326-A201-198AB7C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19CD-B97A-44D4-B901-02DB791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385E-60E3-4F3E-81B8-D65402D9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B74E-D312-44D8-B637-7EDEB8AA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AB5D-B395-47F4-8A16-BAF5C7F8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2803-562B-4C7E-98DE-35B0E1F0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BFF5-240D-4759-8B20-45BCDA6E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55CA-3F0F-4BE0-8BCA-E750062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7A61-205B-418B-AEC0-A7E0750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175-C07D-469B-B349-3BFD7C1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C1AA-7F09-4E9B-830E-36CE83F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1017-C496-4442-9839-2FC5F09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81AB-39D3-428E-BAFC-1959FD4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DF55-F185-4660-A4F4-B8B8359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1707-39AE-42A1-B794-CB68499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9F09-092F-4440-BB4E-D5DDD8B1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63C9-0C4A-49E8-92A5-A797934C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EFB7-0B23-476F-A036-2D134F70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84FA-EBA4-4B01-9835-3253C4D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403E-346D-4B46-9434-7FD21C7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7AC-2577-483D-8467-2D75B9CE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224F-2BAE-4D24-A77E-286AC3AF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E6FC-6556-4ED6-9B2D-45371DB2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4DF2-E5AA-4A67-96EB-4C0891D2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088A-8DA6-4A6E-82AC-84B2C56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80DD-EBF6-4C7A-92C1-F9FAF3B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4B2A-8DDD-46FE-9AD1-3397D7E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95B4-0A0B-4893-B0AD-C7AFDA7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97AD-074B-4E1B-AA59-FFCADE7A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C2D7-C47F-4A2E-92E9-7C3128C6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BD571-AFB3-464A-922A-117BB905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422-C915-40D1-BD8B-718B27E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491D-E833-4DAF-B413-F2FF97C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BE63-68C6-424E-8787-546C485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0F2F-049B-46D1-9BB1-E6330EF2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20A98-844A-4033-8C5C-132ADF4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DAB92-B5B0-4EEE-9A08-12F37F38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23E2-D2FF-4B8D-A498-E6090E8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3B67-C2EB-4C4B-9678-1CED173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D587-D230-42CC-9999-B0704FC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68DC-D1DD-478A-A78C-446A2CA3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F5977-65B7-4AAD-954B-FF61E65D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42B-47BD-41DC-A618-FCA32DA6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68D6-A257-4506-B0A7-9676EA14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DB3F-6782-40F6-8DE8-2FC53FBE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B1C64-F584-4E35-8CF5-4A6AD64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72AEF-930B-4A01-87A1-EBF1002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58220-4A6C-4FBB-A6C1-88AC949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CA59-7630-45DC-8C85-712E975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4B56-C2F0-4A69-B049-FB7C055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F1DA-0E91-4CC0-880E-D5E1911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195B-6422-4727-9D2F-AAE63CB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0B0B2-3C80-4DB2-940B-6DC7FA5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575-DFEF-4817-A276-D4BA488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45A71-EC51-4822-8462-41601EEE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20A4-C6B9-4007-8CCF-2DBBC760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F533-9B86-4E0D-93A4-63FB1D86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67E9F-F8F0-49E4-B9F4-9A783096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E817E-E7F8-47F1-B9DD-860E7BAD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9E7A7-DF74-4CC8-8BD5-6095BAA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273A2-1364-484F-A011-C6AC8336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EE82A-EA80-4B73-BEBA-07DDED3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1681E-8331-4FF9-AC59-2A5A5A2E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A061-C404-4415-83A3-051D0A5D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A7E-0B2E-4072-A362-8341D65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6146-EDD8-4E19-8EF8-F948186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F33C-99E3-405C-9C46-7506494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FF12-49DD-4CFE-ADF6-FEB5B22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1E6C-2AAA-4D4D-9DEE-4E85603B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407F-8838-43FF-BD4E-89AA58F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9A95F-581F-4F54-97FB-B1CF6EBA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6C8FB-686F-4B91-917F-684AA1F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4E634-705D-4EBA-8C88-419A9EF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7D7BB-97ED-40C5-AFC6-C5812297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8C756-7E63-4291-89B2-DA2A5AB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431-8EC8-43B7-BA5F-CDAE8F7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45193-D85A-43DB-8CD7-95CC29C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EB84-A55E-483C-A6F8-A315940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AA65B-DC92-4F45-AC67-89CAFA0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41AF-2D25-4431-8164-B1DDCE4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5761C-5ABE-4AB9-AD66-DD05A5E9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7F21-D880-4892-96A8-23F0BEF4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1D953-BCF4-41CC-B25A-874E43FF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9F7B7-C399-43CC-BCDF-B9105741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208E6-E6D7-43AA-9820-FC52EB8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A68AB-C2B4-4FB2-A655-11D4586A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BD85-E864-4AD7-BAFF-FBCD62451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0456-7D4C-469C-B74A-5C536233F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5382-1FC5-435E-A79B-585AC91E2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CA8-AE3F-42F0-A67F-2687542C0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72B-E68C-4A41-AF4A-C1964BBB8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FD1-044C-4D48-9648-0D6EB53A8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52A-7937-4922-AD41-91D545360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792-F6C9-4C36-B091-329BB9A52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7831-AF57-446B-9CB7-4BD45B1E7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64C3-E74B-4D45-A1EA-3CF2D687C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9852-D8F7-4DAE-9596-A2F0402551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27B-9E3D-4E70-ADD6-FB6522A2E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48c61"/>
                </a:solidFill>
                <a:latin typeface="Georgia"/>
              </a:rPr>
              <a:t>Integrated Thematic Unit Schedule and </a:t>
            </a:r>
            <a:br>
              <a:rPr sz="3800"/>
            </a:br>
            <a:r>
              <a:rPr b="1" lang="en-US" sz="3800" spc="-1" strike="noStrike">
                <a:solidFill>
                  <a:srgbClr val="648c61"/>
                </a:solidFill>
                <a:latin typeface="Georgia"/>
              </a:rPr>
              <a:t>Room Assignments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33520" y="2819520"/>
          <a:ext cx="8076960" cy="3352680"/>
        </p:xfrm>
        <a:graphic>
          <a:graphicData uri="http://schemas.openxmlformats.org/drawingml/2006/table">
            <a:tbl>
              <a:tblPr/>
              <a:tblGrid>
                <a:gridCol w="212760"/>
                <a:gridCol w="1776240"/>
                <a:gridCol w="1471680"/>
                <a:gridCol w="506520"/>
                <a:gridCol w="457200"/>
                <a:gridCol w="1725480"/>
                <a:gridCol w="1469880"/>
                <a:gridCol w="457200"/>
              </a:tblGrid>
              <a:tr h="372960"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ember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tney Drumm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cnic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ssica Mo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/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gean Dun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lar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ttany Th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rd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gan Jenn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uren A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C State Parks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aina Orms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Se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dace McClel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erra Phip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u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rgan Wo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orts &amp;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by Sche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y Fo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hley Frank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bin Ad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opical Rainfor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Isosceles Triangle 6"/>
          <p:cNvSpPr/>
          <p:nvPr/>
        </p:nvSpPr>
        <p:spPr>
          <a:xfrm rot="18842400">
            <a:off x="-299160" y="142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648c6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Isosceles Triangle 12"/>
          <p:cNvSpPr/>
          <p:nvPr/>
        </p:nvSpPr>
        <p:spPr>
          <a:xfrm rot="13455600">
            <a:off x="-245880" y="547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Isosceles Triangle 13"/>
          <p:cNvSpPr/>
          <p:nvPr/>
        </p:nvSpPr>
        <p:spPr>
          <a:xfrm rot="2715000">
            <a:off x="3039120" y="139752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Isosceles Triangle 14"/>
          <p:cNvSpPr/>
          <p:nvPr/>
        </p:nvSpPr>
        <p:spPr>
          <a:xfrm rot="18890400">
            <a:off x="4320000" y="141336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Isosceles Triangle 15"/>
          <p:cNvSpPr/>
          <p:nvPr/>
        </p:nvSpPr>
        <p:spPr>
          <a:xfrm rot="2748600">
            <a:off x="7669800" y="1416600"/>
            <a:ext cx="177948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TextBox 17"/>
          <p:cNvSpPr/>
          <p:nvPr/>
        </p:nvSpPr>
        <p:spPr>
          <a:xfrm>
            <a:off x="6094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 - Sierra Phipp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9"/>
          <p:cNvSpPr/>
          <p:nvPr/>
        </p:nvSpPr>
        <p:spPr>
          <a:xfrm>
            <a:off x="525780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6 - Toby Scher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20"/>
          <p:cNvSpPr/>
          <p:nvPr/>
        </p:nvSpPr>
        <p:spPr>
          <a:xfrm>
            <a:off x="7620120" y="2438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3 - Megan Jenning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21"/>
          <p:cNvSpPr/>
          <p:nvPr/>
        </p:nvSpPr>
        <p:spPr>
          <a:xfrm>
            <a:off x="121932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4 - Shaina Ormsb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brahms Auditori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8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Rectangle 25"/>
          <p:cNvSpPr/>
          <p:nvPr/>
        </p:nvSpPr>
        <p:spPr>
          <a:xfrm>
            <a:off x="2590920" y="6248520"/>
            <a:ext cx="1218960" cy="1220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Rectangle 26"/>
          <p:cNvSpPr/>
          <p:nvPr/>
        </p:nvSpPr>
        <p:spPr>
          <a:xfrm rot="16200000">
            <a:off x="8420040" y="5143320"/>
            <a:ext cx="99072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Rectangle 27"/>
          <p:cNvSpPr/>
          <p:nvPr/>
        </p:nvSpPr>
        <p:spPr>
          <a:xfrm>
            <a:off x="4495680" y="1600200"/>
            <a:ext cx="152640" cy="15238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scilla Whi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8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Rounded Rectangle 11"/>
          <p:cNvSpPr/>
          <p:nvPr/>
        </p:nvSpPr>
        <p:spPr>
          <a:xfrm>
            <a:off x="4419720" y="1676520"/>
            <a:ext cx="274320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Rounded Rectangle 16"/>
          <p:cNvSpPr/>
          <p:nvPr/>
        </p:nvSpPr>
        <p:spPr>
          <a:xfrm rot="5400000">
            <a:off x="7505640" y="2705040"/>
            <a:ext cx="236196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20"/>
          <p:cNvSpPr/>
          <p:nvPr/>
        </p:nvSpPr>
        <p:spPr>
          <a:xfrm>
            <a:off x="5157000" y="19810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 - Megean Dunca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Box 25"/>
          <p:cNvSpPr/>
          <p:nvPr/>
        </p:nvSpPr>
        <p:spPr>
          <a:xfrm>
            <a:off x="5638680" y="3581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 - Cortney Drummon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1219320" y="6095880"/>
            <a:ext cx="6781680" cy="2286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1143000" y="1371600"/>
            <a:ext cx="1219320" cy="152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ectangle 15"/>
          <p:cNvSpPr/>
          <p:nvPr/>
        </p:nvSpPr>
        <p:spPr>
          <a:xfrm rot="16200000">
            <a:off x="-266400" y="50666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Rectangle 17"/>
          <p:cNvSpPr/>
          <p:nvPr/>
        </p:nvSpPr>
        <p:spPr>
          <a:xfrm rot="16200000">
            <a:off x="-266400" y="2400120"/>
            <a:ext cx="99072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Rectangle 18"/>
          <p:cNvSpPr/>
          <p:nvPr/>
        </p:nvSpPr>
        <p:spPr>
          <a:xfrm rot="16200000">
            <a:off x="8420040" y="52952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345960" y="350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7 - Robin Adam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Isosceles Triangle 6"/>
          <p:cNvSpPr/>
          <p:nvPr/>
        </p:nvSpPr>
        <p:spPr>
          <a:xfrm rot="18842400">
            <a:off x="-299160" y="142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648c6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Isosceles Triangle 12"/>
          <p:cNvSpPr/>
          <p:nvPr/>
        </p:nvSpPr>
        <p:spPr>
          <a:xfrm rot="13455600">
            <a:off x="-245880" y="5471640"/>
            <a:ext cx="1779840" cy="89244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Isosceles Triangle 13"/>
          <p:cNvSpPr/>
          <p:nvPr/>
        </p:nvSpPr>
        <p:spPr>
          <a:xfrm rot="2715000">
            <a:off x="3039120" y="139752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Isosceles Triangle 14"/>
          <p:cNvSpPr/>
          <p:nvPr/>
        </p:nvSpPr>
        <p:spPr>
          <a:xfrm rot="18890400">
            <a:off x="4320000" y="1413360"/>
            <a:ext cx="177984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Isosceles Triangle 15"/>
          <p:cNvSpPr/>
          <p:nvPr/>
        </p:nvSpPr>
        <p:spPr>
          <a:xfrm rot="2748600">
            <a:off x="7669800" y="1416600"/>
            <a:ext cx="1779480" cy="892080"/>
          </a:xfrm>
          <a:prstGeom prst="triangle">
            <a:avLst>
              <a:gd name="adj" fmla="val 50000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extBox 17"/>
          <p:cNvSpPr/>
          <p:nvPr/>
        </p:nvSpPr>
        <p:spPr>
          <a:xfrm>
            <a:off x="6094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5 - Morgan Worc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TextBox 18"/>
          <p:cNvSpPr/>
          <p:nvPr/>
        </p:nvSpPr>
        <p:spPr>
          <a:xfrm>
            <a:off x="26668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6 - Ashley Frankli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extBox 19"/>
          <p:cNvSpPr/>
          <p:nvPr/>
        </p:nvSpPr>
        <p:spPr>
          <a:xfrm>
            <a:off x="525780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2 - Brittany Thoma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Box 21"/>
          <p:cNvSpPr/>
          <p:nvPr/>
        </p:nvSpPr>
        <p:spPr>
          <a:xfrm>
            <a:off x="121932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1 - Jerissa Mon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brahms Auditoriu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9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Rectangle 16"/>
          <p:cNvSpPr/>
          <p:nvPr/>
        </p:nvSpPr>
        <p:spPr>
          <a:xfrm rot="16200000">
            <a:off x="3771720" y="2323440"/>
            <a:ext cx="160020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Rectangle 22"/>
          <p:cNvSpPr/>
          <p:nvPr/>
        </p:nvSpPr>
        <p:spPr>
          <a:xfrm>
            <a:off x="2362320" y="6248520"/>
            <a:ext cx="1371600" cy="152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Rectangle 23"/>
          <p:cNvSpPr/>
          <p:nvPr/>
        </p:nvSpPr>
        <p:spPr>
          <a:xfrm rot="5400000">
            <a:off x="8343720" y="5143320"/>
            <a:ext cx="114300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24"/>
          <p:cNvSpPr/>
          <p:nvPr/>
        </p:nvSpPr>
        <p:spPr>
          <a:xfrm>
            <a:off x="990720" y="304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scilla Whi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cember 9,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Rounded Rectangle 11"/>
          <p:cNvSpPr/>
          <p:nvPr/>
        </p:nvSpPr>
        <p:spPr>
          <a:xfrm>
            <a:off x="4419720" y="1676520"/>
            <a:ext cx="274320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Rounded Rectangle 16"/>
          <p:cNvSpPr/>
          <p:nvPr/>
        </p:nvSpPr>
        <p:spPr>
          <a:xfrm rot="5400000">
            <a:off x="7505640" y="2705040"/>
            <a:ext cx="2361960" cy="304560"/>
          </a:xfrm>
          <a:prstGeom prst="roundRect">
            <a:avLst>
              <a:gd name="adj" fmla="val 16667"/>
            </a:avLst>
          </a:prstGeom>
          <a:solidFill>
            <a:srgbClr val="648c61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20"/>
          <p:cNvSpPr/>
          <p:nvPr/>
        </p:nvSpPr>
        <p:spPr>
          <a:xfrm>
            <a:off x="5134320" y="1981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3 - Lauren Ay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25"/>
          <p:cNvSpPr/>
          <p:nvPr/>
        </p:nvSpPr>
        <p:spPr>
          <a:xfrm>
            <a:off x="5715000" y="3581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4 - Candace McClella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1219320" y="6095880"/>
            <a:ext cx="6781680" cy="2286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1143000" y="1371600"/>
            <a:ext cx="1219320" cy="152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Rectangle 15"/>
          <p:cNvSpPr/>
          <p:nvPr/>
        </p:nvSpPr>
        <p:spPr>
          <a:xfrm rot="16200000">
            <a:off x="-266400" y="50666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Rectangle 17"/>
          <p:cNvSpPr/>
          <p:nvPr/>
        </p:nvSpPr>
        <p:spPr>
          <a:xfrm rot="16200000">
            <a:off x="-266400" y="2400120"/>
            <a:ext cx="99072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Rectangle 18"/>
          <p:cNvSpPr/>
          <p:nvPr/>
        </p:nvSpPr>
        <p:spPr>
          <a:xfrm rot="16200000">
            <a:off x="8420040" y="5295240"/>
            <a:ext cx="990360" cy="15264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0:01:49Z</dcterms:created>
  <dc:creator>Ginger McKinney</dc:creator>
  <dc:description/>
  <dc:language>en-US</dc:language>
  <cp:lastModifiedBy>Ginger McKinney</cp:lastModifiedBy>
  <dcterms:modified xsi:type="dcterms:W3CDTF">2010-11-29T13:39:04Z</dcterms:modified>
  <cp:revision>15</cp:revision>
  <dc:subject/>
  <dc:title>Integrated Thematic Unit Room Assignments</dc:title>
</cp:coreProperties>
</file>